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E4F-0548-4CF1-80EB-65D981BD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515-6F73-4AB1-87B9-AE6D552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34F-8F52-4327-A32D-37557A0F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474-1017-4F25-8A91-40AD132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575-8635-4A00-B901-C8BE7D27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DE5-C510-4C89-853B-211B99F4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4EE-362C-4060-88D1-3F541001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386-EE66-464E-8EF1-80CC2721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79A-8A2D-479B-839F-FA70A6C5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25A-80D2-456C-968E-ECD9A3B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55C-6FD9-4F7D-9660-1DDEA43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62C-7192-4C9A-9766-D1526FA5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CCC-5BF8-45C5-A3A1-76146846D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971800" y="1784520"/>
            <a:ext cx="2795760" cy="317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685800"/>
            <a:ext cx="2743200" cy="70344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ght bl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952880" y="609480"/>
            <a:ext cx="3200400" cy="70344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g oval ey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3520" y="5334120"/>
            <a:ext cx="4114800" cy="131292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inty triangular ea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kcs user\Local Settings\Temporary Internet Files\Content.IE5\VZ6T1Y9F\MCj04174560000[1].wmf"/>
          <p:cNvPicPr/>
          <p:nvPr/>
        </p:nvPicPr>
        <p:blipFill>
          <a:blip r:embed="rId1"/>
          <a:stretch/>
        </p:blipFill>
        <p:spPr>
          <a:xfrm>
            <a:off x="2666880" y="1143000"/>
            <a:ext cx="33861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kcs user\Local Settings\Temporary Internet Files\Content.IE5\RCB2BMQU\MCj03607920000[1].wmf"/>
          <p:cNvPicPr/>
          <p:nvPr/>
        </p:nvPicPr>
        <p:blipFill>
          <a:blip r:embed="rId1"/>
          <a:stretch/>
        </p:blipFill>
        <p:spPr>
          <a:xfrm>
            <a:off x="2514600" y="930240"/>
            <a:ext cx="37339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kcs user\Local Settings\Temporary Internet Files\Content.IE5\RCB2BMQU\MCj04321610000[1].wmf"/>
          <p:cNvPicPr/>
          <p:nvPr/>
        </p:nvPicPr>
        <p:blipFill>
          <a:blip r:embed="rId1"/>
          <a:stretch/>
        </p:blipFill>
        <p:spPr>
          <a:xfrm>
            <a:off x="3124080" y="914400"/>
            <a:ext cx="23209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kcs user\Local Settings\Temporary Internet Files\Content.IE5\I71VTAVR\MCj0140899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4086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cs user\Local Settings\Temporary Internet Files\Content.IE5\VZ6T1Y9F\MCj01160360000[1].wmf"/>
          <p:cNvPicPr/>
          <p:nvPr/>
        </p:nvPicPr>
        <p:blipFill>
          <a:blip r:embed="rId1"/>
          <a:stretch/>
        </p:blipFill>
        <p:spPr>
          <a:xfrm>
            <a:off x="2133720" y="1447920"/>
            <a:ext cx="5068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0:08:38Z</dcterms:created>
  <dc:creator>Shady Brook</dc:creator>
  <dc:description/>
  <dc:language>en-US</dc:language>
  <cp:lastModifiedBy>Shady Brook</cp:lastModifiedBy>
  <dcterms:modified xsi:type="dcterms:W3CDTF">2008-01-29T20:20:42Z</dcterms:modified>
  <cp:revision>2</cp:revision>
  <dc:subject/>
  <dc:title>Slide 1</dc:title>
</cp:coreProperties>
</file>